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49A-9FA9-4105-AC56-C4978DCA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A8B-EA82-4F98-8891-EC8D6684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5BD-DA98-4B60-A272-64F36208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6F1-72DA-4C7C-9ED0-69EDE07E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859-185F-44B6-A359-2BD43DC1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CE2-1F9F-4F1C-BD40-BBA72A90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426-DCC6-4C5B-8D3F-CD506C53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9B2-571A-4B1E-BB30-92D6916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8E9-3DD0-4B47-BB2A-0ADC67EF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B7B-6D20-4BAE-AF6E-15EC333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992-56C8-4C2A-8C50-099144B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637-0C79-47CB-B97A-0E7969E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2EA-9B32-40B9-B145-FE069AAEF39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aždý budúci inžinier sa učí ako správne a jednoducho matematicky zapísať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 sumu dvoch reálných čísiel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príklad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666880" y="4114800"/>
                <a:ext cx="3462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áto forma zlá, lebo je banálna nie je na úrovni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1" lang="sk-SK" sz="48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lekcia s matematickej anal</a:t>
            </a:r>
            <a:r>
              <a:rPr b="1" lang="sk-SK" sz="4800" spc="-1" strike="noStrike">
                <a:solidFill>
                  <a:srgbClr val="ffffff"/>
                </a:solidFill>
                <a:latin typeface="Times New Roman"/>
              </a:rPr>
              <a:t>ýz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 prvých semestroch sa učím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00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505320" y="1295280"/>
                <a:ext cx="2050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ďal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90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2819520"/>
                <a:ext cx="4800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 okrem toho každy vie, že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4724280"/>
                <a:ext cx="34290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na základe čoho môže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1295280"/>
                <a:ext cx="2590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zapísať v jednoduchej form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3276720"/>
                <a:ext cx="7734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ko uznaš sá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 vyzerá to omnoho zrozumiteľnejšie a uče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amozrejmosťou je tiež, ž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057400"/>
                <a:ext cx="6019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1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648320"/>
                <a:ext cx="292896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čoho vyply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295280"/>
                <a:ext cx="5334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2819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tieto vyrazy možno zapisať jednoduchým a samozrejmým spôsobom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38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4343400"/>
                <a:ext cx="8381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li by sme ešte poznamenať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666880"/>
            <a:ext cx="93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86200" y="990720"/>
                <a:ext cx="1233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rátená hodnota transponovanej matice sa rovná transponovanej matici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prevrát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j hodnot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 podmienke jednoprvkovej matice dostávame ďalšie zjednodušenie po pridaní vektora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ôžeme napísať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819520" y="5334120"/>
                <a:ext cx="3886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0" y="3429000"/>
                <a:ext cx="457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keď spojíme zjednoduš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1143000"/>
                <a:ext cx="115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2590920"/>
                <a:ext cx="3124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toho logicky dostaneme 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0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0" y="4800600"/>
                <a:ext cx="48006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eď použijeme uvedené zjednodušenia, vo výra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 rot="10800000">
                <a:off x="685800" y="1142640"/>
                <a:ext cx="7924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dostnaneme výraz v jednoduchej, elegantnej, čitateľnej a každému zruzumiteľnej form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336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" y="3581280"/>
                <a:ext cx="86104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!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Uvedený výraz je omnoho zrozumiteľnejší ak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05320" y="5715000"/>
                <a:ext cx="190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Existuje ešte veľa iných možností zjednodušenia výrazu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71800" y="1295280"/>
                <a:ext cx="31575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le tieto ďalšie preberieme po pochopení vyššie uvedených základných pravidiel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cc00"/>
                </a:solidFill>
                <a:latin typeface="Comic Sans MS"/>
              </a:rPr>
              <a:t>ElPeplo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95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Pošli tento mail múdremu a inteligentn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nžinierovi, a ak takého nepoznáš, pošli ho známemu alebo priateľov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37:43Z</dcterms:created>
  <dc:creator>Earl Gray</dc:creator>
  <dc:description/>
  <dc:language>en-US</dc:language>
  <cp:lastModifiedBy>Falco</cp:lastModifiedBy>
  <dcterms:modified xsi:type="dcterms:W3CDTF">2002-12-10T07:47:11Z</dcterms:modified>
  <cp:revision>39</cp:revision>
  <dc:subject/>
  <dc:title>PowerPoint-Präsentation</dc:title>
</cp:coreProperties>
</file>