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A903-759A-49B8-B2DF-FDA13B3F0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8DEE-E7F2-458A-912D-A40D74BB3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3DFF-6628-49DE-85BE-16A15FC11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D0A8-BA22-48CB-BAE2-54484CB61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F215-B975-4805-B196-B2BE4D8F0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3F94-B824-4518-B227-E11DFCC14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392B-F7B6-4804-9BA5-D81C10499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2DA8-B722-4F61-948A-AC1E0696F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1893-A19B-46FE-8A88-F3C94B006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C09B-361A-4390-889C-07DAF605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55B5-CE63-4BA6-A729-2B1B45382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E1CC-DDED-406F-AACF-6D7CBA938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8F760-A125-4606-AA04-C56A5FA99650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438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Každý budúci inžinier sa učí ako správne a jednoducho matematicky zapísať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  sumu dvoch reálných čísiel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napríklad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30992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2666880" y="4114800"/>
                <a:ext cx="3462480" cy="10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0" y="5410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Táto forma zlá, lebo je banálna nie je na úrovni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808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rv</a:t>
            </a:r>
            <a:r>
              <a:rPr b="1" lang="sk-SK" sz="4800" spc="-1" strike="noStrike">
                <a:solidFill>
                  <a:srgbClr val="ffffff"/>
                </a:solidFill>
                <a:latin typeface="Times New Roman"/>
              </a:rPr>
              <a:t>á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lekcia s matematickej anal</a:t>
            </a:r>
            <a:r>
              <a:rPr b="1" lang="sk-SK" sz="4800" spc="-1" strike="noStrike">
                <a:solidFill>
                  <a:srgbClr val="ffffff"/>
                </a:solidFill>
                <a:latin typeface="Times New Roman"/>
              </a:rPr>
              <a:t>ýzy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5335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Na prvých semestroch sa učíme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0056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3505320" y="1295280"/>
                <a:ext cx="205092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" name=""/>
          <p:cNvSpPr/>
          <p:nvPr/>
        </p:nvSpPr>
        <p:spPr>
          <a:xfrm>
            <a:off x="0" y="2133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a ďalej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9088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2286000" y="2819520"/>
                <a:ext cx="4800600" cy="80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0" y="3886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a okrem toho každy vie, že</a:t>
            </a: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8620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2819520" y="4724280"/>
                <a:ext cx="3429000" cy="14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304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na základe čoho môžem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0992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3276720" y="1295280"/>
                <a:ext cx="259056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0" y="2514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zapísať v jednoduchej forme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6716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685800" y="3276720"/>
                <a:ext cx="7734240" cy="16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e</m:t>
                        </m:r>
                      </m:e>
                    </m:d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0" y="54864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Ako uznaš sá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a vyzerá to omnoho zrozumiteľnejšie a učene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838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Samozrejmosťou je tiež, že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3392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1600200" y="2057400"/>
                <a:ext cx="601992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h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∗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0" y="3657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08132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2895480" y="4648320"/>
                <a:ext cx="2928960" cy="13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z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z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304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Z čoho vyply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2057400" y="1295280"/>
                <a:ext cx="5334120" cy="11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e</m:t>
                        </m:r>
                      </m:e>
                    </m:d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0" y="28195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A tieto vyrazy možno zapisať jednoduchým a samozrejmým spôsobom 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3836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304920" y="4343400"/>
                <a:ext cx="838188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z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lim>
                        </m:limLow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z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h</m:t>
                            </m:r>
                            <m:r>
                              <m:t xml:space="preserve">(</m:t>
                            </m:r>
                            <m:r>
                              <m:t xml:space="preserve">q</m:t>
                            </m:r>
                            <m:r>
                              <m:t xml:space="preserve">)</m:t>
                            </m:r>
                            <m:r>
                              <m:t xml:space="preserve">∗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anh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r>
                                  <m:t xml:space="preserve">q</m:t>
                                </m:r>
                                <m:r>
                                  <m:t xml:space="preserve">)</m:t>
                                </m:r>
                              </m:e>
                            </m:rad>
                          </m:num>
                          <m:den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228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Mali by sme ešte poznamenať, ž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666880"/>
            <a:ext cx="9358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3886200" y="990720"/>
                <a:ext cx="123336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!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0" y="190512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vrátená hodnota transponovanej matice sa rovná transponovanej matici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prevráte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j hodnoty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 podmienke jednoprvkovej matice dostávame ďalšie zjednodušenie po pridaní vektora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môžeme napísať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5748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819520" y="5334120"/>
                <a:ext cx="388620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858000" y="3429000"/>
                <a:ext cx="4572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304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keď spojíme zjednodušen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3962520" y="1143000"/>
                <a:ext cx="115704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!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0" y="18288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5748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048120" y="2590920"/>
                <a:ext cx="312408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0" y="3809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Z toho logicky dostaneme :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0060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2286000" y="4800600"/>
                <a:ext cx="4800600" cy="15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bar>
                                  </m:e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ba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!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228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Keď použijeme uvedené zjednodušenia, vo výraz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 rot="10800000">
                <a:off x="685800" y="1142640"/>
                <a:ext cx="7924680" cy="10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z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lim>
                        </m:limLow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z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h</m:t>
                            </m:r>
                            <m:r>
                              <m:t xml:space="preserve">(</m:t>
                            </m:r>
                            <m:r>
                              <m:t xml:space="preserve">q</m:t>
                            </m:r>
                            <m:r>
                              <m:t xml:space="preserve">)</m:t>
                            </m:r>
                            <m:r>
                              <m:t xml:space="preserve">∗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anh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r>
                                  <m:t xml:space="preserve">q</m:t>
                                </m:r>
                                <m:r>
                                  <m:t xml:space="preserve">)</m:t>
                                </m:r>
                              </m:e>
                            </m:rad>
                          </m:num>
                          <m:den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0" y="23623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dostnaneme výraz v jednoduchej, elegantnej, čitateľnej a každému zruzumiteľnej forme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3364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28600" y="3581280"/>
                <a:ext cx="8610480" cy="9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z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lim>
                        </m:limLow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p>
                                              <m:e>
                                                <m:bar>
                                                  <m:barPr>
                                                    <m:pos m:val="top"/>
                                                  </m:barPr>
                                                  <m:e>
                                                    <m:r>
                                                      <m:t xml:space="preserve">X</m:t>
                                                    </m:r>
                                                  </m:e>
                                                </m:bar>
                                              </m:e>
                                              <m:sup>
                                                <m:r>
                                                  <m:t xml:space="preserve">T</m:t>
                                                </m:r>
                                              </m:sup>
                                            </m:sSup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p>
                                              <m:e>
                                                <m:bar>
                                                  <m:barPr>
                                                    <m:pos m:val="top"/>
                                                  </m:barPr>
                                                  <m:e>
                                                    <m:r>
                                                      <m:t xml:space="preserve">X</m:t>
                                                    </m:r>
                                                  </m:e>
                                                </m:bar>
                                              </m:e>
                                              <m:sup>
                                                <m:r>
                                                  <m:t xml:space="preserve">−</m:t>
                                                </m:r>
                                                <m:r>
                                                  <m:t xml:space="preserve">1</m:t>
                                                </m:r>
                                              </m:sup>
                                            </m:sSup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T</m:t>
                                        </m:r>
                                      </m:sup>
                                    </m:sSup>
                                  </m:e>
                                </m:d>
                                <m:r>
                                  <m:t xml:space="preserve">!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z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h</m:t>
                            </m:r>
                            <m:r>
                              <m:t xml:space="preserve">(</m:t>
                            </m:r>
                            <m:r>
                              <m:t xml:space="preserve">q</m:t>
                            </m:r>
                            <m:r>
                              <m:t xml:space="preserve">)</m:t>
                            </m:r>
                            <m:r>
                              <m:t xml:space="preserve">∗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anh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r>
                                  <m:t xml:space="preserve">q</m:t>
                                </m:r>
                                <m:r>
                                  <m:t xml:space="preserve">)</m:t>
                                </m:r>
                              </m:e>
                            </m:rad>
                          </m:num>
                          <m:den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0" y="4724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Uvedený výraz je omnoho zrozumiteľnejší ako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0992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3505320" y="5715000"/>
                <a:ext cx="190476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52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Existuje ešte veľa iných možností zjednodušenia výrazu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30992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2971800" y="1295280"/>
                <a:ext cx="315756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0" y="2438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ale tieto ďalšie preberieme po pochopení vyššie uvedených základných pravidiel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63244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cc00"/>
                </a:solidFill>
                <a:latin typeface="Comic Sans MS"/>
              </a:rPr>
              <a:t>ElPeplo</a:t>
            </a:r>
            <a:r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4956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Pošli tento mail múdremu a inteligentném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inžinierovi, a ak takého nepoznáš, pošli ho známemu alebo priateľov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17:37:43Z</dcterms:created>
  <dc:creator>Earl Gray</dc:creator>
  <dc:description/>
  <dc:language>en-US</dc:language>
  <cp:lastModifiedBy>Falco</cp:lastModifiedBy>
  <dcterms:modified xsi:type="dcterms:W3CDTF">2002-12-10T07:47:11Z</dcterms:modified>
  <cp:revision>39</cp:revision>
  <dc:subject/>
  <dc:title>PowerPoint-Präsentation</dc:title>
</cp:coreProperties>
</file>